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D552-F844-40C2-9663-915480E40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D24B-9B22-4BB1-BF7A-E665799E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2FB0-F211-4A3D-BAAC-FFFABF117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9E61-9807-4C92-B1F4-9C2864906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398A-7198-4291-BAF6-51AA37959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151D-EE08-40CD-9374-116C8356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4E64B-BF50-411F-82A8-2A99CC8E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FB41-CE93-406F-9B39-EC5C3EB2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8C69-A33F-47F4-8F96-F6E7269D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D381-E3BA-4EE7-866A-27007849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F9C4-E63D-49D7-A8F4-BB727C40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1D2A-1E5A-4A8B-9B7B-66CE5749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8457-6CDD-4B97-BE65-8287CCAD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79E5-4C89-4575-9B3C-60754ADE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0E76-4DC4-426B-9E2D-5CBBCA7E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1F12-2DAB-407A-BABF-62F38ED78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E7F0-BAE8-41AA-93E6-6919DA694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C0A8-E1B4-4A2C-BE96-58CF32B2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6B0E-7E69-44F8-A933-9C640BAD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CF41-1CD3-405B-AD66-2297CD1E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9222-B328-4C47-B0F1-EBA00C70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EDFB-364C-4F67-9C4B-C9B11D22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0337-4A48-4A5D-AD63-1E667EB3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60BD-D4D5-42BC-BEF9-54789F63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8680" cy="6856560"/>
            <a:chOff x="0" y="0"/>
            <a:chExt cx="914868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6684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525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6305400"/>
              <a:ext cx="9148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641988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10666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5049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933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F9A9-2684-4E28-B414-67B67B5938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8680" cy="6856560"/>
            <a:chOff x="0" y="0"/>
            <a:chExt cx="9148680" cy="685656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66840"/>
              <a:ext cx="914400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452520"/>
              <a:ext cx="9148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30540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41988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10666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5049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933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123E-C29D-4DA3-B3DB-0A244CD70C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16765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The Life of Christ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“Sir, We Would See Jesus”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arter 10, Lesson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s 88-9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hn 7:1 – 8:2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Jesus Claims To Be The Light of The World – John 8:12-20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sus used the occasion of the feast, with it’s lighted cou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Jews were hoping for God to kindle for them the “Great Light” in the days of the Messia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sus affirms that people who know God should know the connection between Him and the Fa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Review of Main Segments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fe of Chr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ginning Mini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lilean Mini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irement – to teach his disc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ING MINI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Our Main Points of The Close of Jesus’ Ministry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tude Divided – Common people &amp; Lea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position Strong – among lea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easts in Jerusal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ast of Tabernacles – About 6 months before Jesus’ death on the cr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ussions Jesus had with the Jews and their lea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Multitude Divided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Jewish Officials Hate Him and Plan His De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s are very excited about the Messiah, believing Jesus to be the one prophes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Opposition Strong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harisees had several run-ins with Jesus and desired his death – Matt.12:1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ws tried to kill Him at an earlier feast –John 5:1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now opposition is more organized and more determi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6148440" cy="4695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438360" y="0"/>
            <a:ext cx="5705640" cy="370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191120" y="3809880"/>
            <a:ext cx="4952880" cy="27496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304920" y="762120"/>
            <a:ext cx="260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erusale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Feast of Tabernacles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st feast in the yearly cycle of feasts commanded in law of Mo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lebrated in 7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onth (Tishri) in connection with the Day of Aton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ll of the y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lebrating harv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Seven Days Following Day of Aton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Remember the Days When They Lived in Booths in the Wilder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esus arrives late and secretly until midway into the fea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Jesus Called For Truth-Seekers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ose who want to know truth can know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ose who are prejudiced can find fault with anybody – 7:7, 16,1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ever, Jesus’ healing on a Sabbath was not legitimate cause for trying to kill Him -7:21-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ose who are thirsty for truth can come to Him for living water for the soul -7:3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odemus urged the Pharisees to give Jesus a fair hearing and then make judgment – 7:50-5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The Matter of the Adulteress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adulteress is brought to Jesus for judgment – John 8:2-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were trying to trap Jesus to expose Him before oth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esus subtly and wisely dealt with the Jews’ hypocri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dealt with the woman’s sin by urging her repentance and forgiving 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7T02:09:22Z</dcterms:created>
  <dc:creator>Terry W. Benton</dc:creator>
  <dc:description/>
  <dc:language>en-US</dc:language>
  <cp:lastModifiedBy>Frank D Vines</cp:lastModifiedBy>
  <dcterms:modified xsi:type="dcterms:W3CDTF">2006-07-05T21:39:36Z</dcterms:modified>
  <cp:revision>5</cp:revision>
  <dc:subject/>
  <dc:title>The Life of Christ “Sir, We Would See Jesus”</dc:title>
</cp:coreProperties>
</file>